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1FB-834D-4C7B-96CC-8A93EA0C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FDF-D881-4900-8EA1-6F2EBFAA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E99-556A-4119-A5BC-DFBC2671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E23-FFFB-4EFB-A2AF-06659414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779-F4EE-4F58-9D3F-68F26DB4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DA9-C780-47B2-A5D5-E4B58914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FA4-34B5-4949-810C-2F003BDE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8DB-5FF5-4ED0-9387-1059B901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B0E-61DD-488B-BF2C-0BD71171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0D9-0904-4D2C-AB83-58854B9C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D4B-B314-46C4-A6A5-55FB2D54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D53-4C4A-4D80-A39F-A37D078C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a5c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2D53-025D-41E5-B7FB-7C3B2A3F4A3E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© KING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2471-439F-4D4B-A26E-10A277CF22C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Afbeelding 6" descr="Afbeelding1.png"/>
          <p:cNvPicPr/>
          <p:nvPr/>
        </p:nvPicPr>
        <p:blipFill>
          <a:blip r:embed="rId2"/>
          <a:stretch/>
        </p:blipFill>
        <p:spPr>
          <a:xfrm>
            <a:off x="7053120" y="285840"/>
            <a:ext cx="2090880" cy="10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Werkplan StUF 2010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Utrecht - StUF Regiegroep -  17/2/2010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Henri Korver, Peter Klaver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Vermarkten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StUF content migreren website KING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Sprekende voorbeeld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Persbericht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Surfgroepen en forums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Artikelen in vakblad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Kwaliteit van de inhoud presenteren en uitdragen.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Opleiden (door derden), train de trainer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Inhoud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Beheer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(Door)ontwikkeling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</a:rPr>
              <a:t>StUF standaard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</a:rPr>
              <a:t>Sectormodellen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</a:rPr>
              <a:t>Tooling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</a:rPr>
              <a:t>Certificering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Vermarkt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Planning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8"/>
                </a:solidFill>
                <a:latin typeface="Calibri"/>
              </a:rPr>
              <a:t>Legitimatie / omgevingsinput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da5c21"/>
                </a:solidFill>
                <a:latin typeface="Calibri"/>
              </a:rPr>
              <a:t>Invulling geven aan de speerpunten uit Werkplan KING 2010 </a:t>
            </a:r>
            <a:endParaRPr b="0" lang="en-US" sz="19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a5c21"/>
                </a:solidFill>
                <a:latin typeface="Calibri"/>
              </a:rPr>
              <a:t>StUF moet blijven voldoen aan de criteria van het College en Forum Standaardisatie  i.c. werken conform beheermodel/afspraken</a:t>
            </a:r>
            <a:endParaRPr b="0" lang="en-US" sz="19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da5c21"/>
                </a:solidFill>
                <a:latin typeface="Calibri"/>
              </a:rPr>
              <a:t>Inclusief (mogelijk) inspelen:</a:t>
            </a:r>
            <a:endParaRPr b="0" lang="en-US" sz="19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Input uit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denktanksessie met StUF RG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Doorbraken open standaaren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bestuurstafel “Heemskerk”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  (NOiV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NOiV onderzoek gebruik open standaarden (gemeentelijke input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(Bestaande) afhankelijkheden en afspraken met landelijke voorzieningen, BR’s en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NUP programma’s (WABO/LVO, BAG, WOZ, WMO?, mGBA?, WKPB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Invoering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binnengemeentelijk gebruik de BAG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Uitvoering samenwerking /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harmonisatie NEN3610/Geonovum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Logius (GBO) voor 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uniforme afspraken over netwerken (KPS, GemNet, SUWI, internet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Aansluiten van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 gemeente servicebus aan</a:t>
            </a: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 Digikoppeling (OSB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Inspelen op mGBA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  - vraag aan KING van BZK om beheer van de functionele specs van aanvullende modules van nieuwe Burgerzaken-systeem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a5c21"/>
                </a:solidFill>
                <a:latin typeface="Calibri"/>
              </a:rPr>
              <a:t>Vraag naar serviceregister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 (Tilburg, Rotterdam)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……</a:t>
            </a:r>
            <a:r>
              <a:rPr b="0" lang="en-US" sz="1700" spc="-1" strike="noStrike">
                <a:solidFill>
                  <a:srgbClr val="da5c21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0068"/>
                </a:solidFill>
                <a:latin typeface="Calibri"/>
              </a:rPr>
              <a:t>Beheer (continuïteit, onderhoud)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Bestaande StUF standaarden (incl. stuf-ef, 2.xx  als 3.xx)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Additionele producten (bestekteksten, opleiding, beheermodel, factsheets, artikelen)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Errata- en wijzigingsproces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ommunity-voorziening, deelnemers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EG en RG bijeenkomst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upport- en adviesdesk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57160" y="1481040"/>
            <a:ext cx="7718400" cy="5234040"/>
          </a:xfrm>
          <a:prstGeom prst="rect">
            <a:avLst/>
          </a:prstGeom>
          <a:ln w="0">
            <a:noFill/>
          </a:ln>
        </p:spPr>
      </p:pic>
      <p:sp>
        <p:nvSpPr>
          <p:cNvPr id="51" name="Ovaal 5"/>
          <p:cNvSpPr/>
          <p:nvPr/>
        </p:nvSpPr>
        <p:spPr>
          <a:xfrm>
            <a:off x="0" y="4000680"/>
            <a:ext cx="8786880" cy="285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al 3"/>
          <p:cNvSpPr/>
          <p:nvPr/>
        </p:nvSpPr>
        <p:spPr>
          <a:xfrm>
            <a:off x="4071960" y="1071720"/>
            <a:ext cx="1143000" cy="28573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el 1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Beheer door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Doorontwikkeling (1): StUF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Nieuwe release StUF-protocolbindingen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Inspelen/volgen van mGBA, SUWI, WMO, Afval, berichtenbox, GOB, TMF, OSB , SOA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Uitvoeren</a:t>
            </a:r>
            <a:r>
              <a:rPr b="0" sz="2800" spc="-1" strike="noStrike">
                <a:solidFill>
                  <a:srgbClr val="da5c2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van de  voorgestelde harmonisatie StUF/RGSB en NEN3610 (Geo)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Ontwerpregels opstellen voor nieuwe StUF sectormodellen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Primer-document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Gemeenten stimuleren om StUF services voor te schrijven volgens bestekteksten t.b.v. programma van eisen en de aanzet voor een serviceregister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8"/>
                </a:solidFill>
                <a:latin typeface="Calibri"/>
              </a:rPr>
              <a:t>Doorontwikkeling (2): nieuwe koppelvlakken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tormodel StUF-ZK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Binnengemeentelijke koppelvlakken voor BAG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tormodel StUF mGBA ontwikkel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tormodel StUF SUWI ontwikkelen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Actief participeren in Stelsel standaarden (nen3610 in combinatie met StUF)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0068"/>
                </a:solidFill>
                <a:latin typeface="Calibri"/>
              </a:rPr>
              <a:t>Doorontwikkeling (3): tooling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generatie van XML-schema’s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Omzetting gegevensmodel naar berichtenmodel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Standaard adapter software (open source?)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Viewing en browsing tools voor StUF-gegevensmodellen en -berichtschema’s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8"/>
                </a:solidFill>
                <a:latin typeface="Calibri"/>
              </a:rPr>
              <a:t>Doorontwikkeling (4): certificering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StUF compliancy – pve afronden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Op 1 lijn brengen met andere certificeringsonderwerpen van KING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Gefaseerde aanpak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c21"/>
                </a:solidFill>
                <a:latin typeface="Calibri"/>
              </a:rPr>
              <a:t>Vervolg – selectietraject keuringinstituut</a:t>
            </a:r>
            <a:endParaRPr b="0" lang="en-US" sz="20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c21"/>
                </a:solidFill>
                <a:latin typeface="Calibri"/>
              </a:rPr>
              <a:t>&lt;contract met keuringsinstituut&gt;</a:t>
            </a:r>
            <a:endParaRPr b="0" lang="en-US" sz="20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c21"/>
                </a:solidFill>
                <a:latin typeface="Calibri"/>
              </a:rPr>
              <a:t>POC / experimenteren/ testen  (bijv top5 uit Bestuurtafel Heemskerk)</a:t>
            </a:r>
            <a:endParaRPr b="0" lang="en-US" sz="20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c21"/>
                </a:solidFill>
                <a:latin typeface="Calibri"/>
              </a:rPr>
              <a:t>&lt;go/no go “StUF Keurmerk”</a:t>
            </a:r>
            <a:endParaRPr b="0" lang="en-US" sz="20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c21"/>
                </a:solidFill>
                <a:latin typeface="Calibri"/>
              </a:rPr>
              <a:t>Opschaling naar keuren</a:t>
            </a:r>
            <a:endParaRPr b="0" lang="en-US" sz="20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c21"/>
                </a:solidFill>
                <a:latin typeface="Calibri"/>
              </a:rPr>
              <a:t>Dilemma</a:t>
            </a:r>
            <a:endParaRPr b="0" lang="en-US" sz="28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c21"/>
                </a:solidFill>
                <a:latin typeface="Calibri"/>
              </a:rPr>
              <a:t>Vergt veel resources en expertise</a:t>
            </a:r>
            <a:endParaRPr b="0" lang="en-US" sz="2400" spc="-1" strike="noStrike">
              <a:solidFill>
                <a:srgbClr val="da5c21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a5c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c21"/>
                </a:solidFill>
                <a:latin typeface="Calibri"/>
              </a:rPr>
              <a:t>Extra commitment stakeholders noodzakelijk</a:t>
            </a:r>
            <a:endParaRPr b="0" lang="en-US" sz="2400" spc="-1" strike="noStrike">
              <a:solidFill>
                <a:srgbClr val="da5c21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a5c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3:03Z</dcterms:created>
  <dc:creator>Peter Klaver</dc:creator>
  <dc:description/>
  <dc:language>en-US</dc:language>
  <cp:lastModifiedBy>Peter</cp:lastModifiedBy>
  <dcterms:modified xsi:type="dcterms:W3CDTF">2010-02-17T11:58:30Z</dcterms:modified>
  <cp:revision>3</cp:revision>
  <dc:subject/>
  <dc:title>Werkplan StUF 2010</dc:title>
</cp:coreProperties>
</file>